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57400" y="680760"/>
            <a:ext cx="4543200" cy="3406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277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277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DF1F8-5C4A-4312-BD8D-210B6B0EC5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CA122-4B23-4F11-8FDE-36CAA6FE06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9D0B3-248D-4E0D-A341-2C99E3A9B2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A5C01-C2FA-49C4-B4F6-74829D6D4D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49CB9-A61B-43A3-811C-AD220FBDFD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FB7BA-2F9D-40FC-9AE6-FBF0F13D8B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EE120-D4B3-4F05-A10C-65E1404943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0D73-E1BC-49B8-810E-C770EF5E5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C978-2BDF-4EFC-8C8B-2D9569490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6C20-75AE-49B6-A96C-7BE03FBE2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B086-524A-43D3-AFE9-2E2532C6D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6C01E-C200-41D6-A05F-9533FAA8B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7486C-3DB5-439F-AD2B-51868D472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941B1-4626-4C3C-8530-87C0E1E80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414B8-1D28-4478-A634-93BAC0E80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16292-D73B-4170-86AB-EF752526D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9B730-E2EE-44B1-A951-EFECC5D11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F0EAF-2668-4EA2-9008-41CCF05A1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7931-471A-42AC-800F-228B547D0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812F8-B245-4E67-A6B1-67E06AC3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EBBC9-50E2-440B-8958-ED63BC243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2C077-3100-4839-85A8-A83C73139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91878-459D-4158-BC90-B01767DF4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73EE9-DC66-4D9C-A936-9FF65BAFD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7C059B-1D4B-466D-8F83-534CDBA5B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833662-062B-435A-9C40-EF3E1D400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5732A4-9E0F-4691-A3CD-92CC3E451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B4A565-D6CE-4535-82C4-87C0248E0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6CA4BE-A43F-4BFB-B312-4B4611A2B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2E87-5893-41A1-AF13-00D0BF759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CAC988-C1E4-4E24-BF1B-801C04575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BB91D8-B01D-4360-84B8-6C2363669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40DC54-5887-485A-8448-63DD41C9B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7B1F4E-1A53-470A-9A4C-369DC7EC6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AABD68-F3B5-4A29-845B-68EADE63A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90E5E7-DCDC-472F-A401-32C285BFE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77F71E-96A6-415E-81C2-A4B1305B4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F4658-0FBC-405B-B2D8-0E4C6DDA0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5371D-D985-418D-BC79-27164F254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95AD5-23F1-425E-A97A-523053FF0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3E18-7723-4386-AEE5-4D712EEB2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589DD-5579-4019-AB95-AC4299C5F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C5BEE-4A86-4B83-A80A-4803B96A5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F52CC-B12C-46D4-A86C-FB8194AF9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58334-226E-4BF8-BB2A-6BB4C045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F36DC-FAA7-4F58-915B-C75070FB1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E1CF3-53DE-4F2F-A450-C466C161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ECFA2-FF69-4ADD-97A8-1A6241D3F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AB783-ECED-4BC1-8DB0-CC6DDCB23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3E4FB-C962-4153-A4D1-EAB88B525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5EAF29-184E-43FB-BC92-F85DC0941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691A-01DA-4126-A75A-69E771F8A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9560B2-8E06-4241-BCA8-D53E673F0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60181B-7740-4466-AD34-6C2E8461D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D87AA8-9F04-4C54-B358-BA6182953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6162FC-5901-4080-8F25-F0EFB656F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E78B03-EF0E-4CD0-BF98-A768947BD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6ED894-4F88-4318-AE39-3EE5F8B44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FE3DF0-4047-47A9-A60D-14777CFDC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B2E80C-4818-46A8-94D9-BC512DDF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BDD902-C03B-4D71-9C6F-1F20E2976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BFCDF5-3A62-4CE8-8EDF-AB2597645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AD6F-F72D-45F4-96BB-784832CA2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063381-862C-437B-89E0-329017BB7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0F02BA-5064-4E64-A303-AC9210300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8678BC-EAE9-4950-A7E8-3759A4B5F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E8EA54-474C-4507-B9D0-3D4357BEB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86BEC9-BBB1-4111-A48A-A0A59CF40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62EF26-20D9-4B12-BAE2-10001DBDC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A30DAD-A5E6-49D2-A873-AFC071E8F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02ED1E-C826-48F3-AD66-47A7A166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CC8011-1F42-4999-A767-C167E55C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6B4528-1F87-4E19-8B97-136C5E74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B903-DD2A-4574-A6B7-6B840B7B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E9A788-475D-4522-A45E-3E83900A5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333345-B991-469C-8882-3290DAE40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0E3CC7-ECAE-46B7-9472-A35DE5533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7ADD31-6B9C-4033-8C7F-B055D0D4B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B55053-32E6-451F-AAD1-B9E0AFD74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BAF9DB-2522-4BBF-A983-2E094BCFF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A60CFA-395F-4BD5-A0EE-38C87E9A3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35C497-BF43-4B2E-B6BF-B77DC3B37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211137-754F-4A31-AF64-019A39624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70E311-6462-4700-A660-64D65D08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CEE9-17BB-4FE9-B1FC-9131BB098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0EC6D6-462F-4BF6-A1C9-C58ECB62E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B0F141-538E-46EC-8CEC-EE6AF485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CA543F-8F77-4AB3-B33B-F2A08B77F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7188FD-35D4-49E0-BC58-A396D9C9A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AAAA29-3BE6-48EA-B190-382EF7EE7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52DE-608A-4824-894A-2C2C2C33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571CE-53A3-4D66-B440-189A04B17055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577DB-44D1-45C4-9314-14D7BC8BAD1C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7C014-7855-497A-8BF3-54AD66A2C0CD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0BFA4-A199-4C21-86A9-6559EF41BDF8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DFF45-45A9-4207-B7E7-DA868B28D74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92C2C-1F72-48EF-984D-D1738A56D5A9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C9E1C-E43F-4811-98A9-762A5CF02F8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575f6d"/>
                </a:solidFill>
                <a:latin typeface="Century Schoolbook"/>
              </a:rPr>
              <a:t>QUIZ #5</a:t>
            </a:r>
            <a:endParaRPr b="0" lang="en-US" sz="6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5530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entury Schoolbook"/>
              </a:rPr>
              <a:t>ENGLISH 201 Summer 2011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entury Schoolbook"/>
              </a:rPr>
              <a:t>Prof. Everson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1980720" y="1295280"/>
            <a:ext cx="4800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39d"/>
                </a:solidFill>
                <a:latin typeface="Century Schoolbook"/>
              </a:rPr>
              <a:t>Put your name at top, today’s date, June 15, 2011 and Quiz #5</a:t>
            </a: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1" name="Title 1"/>
          <p:cNvSpPr/>
          <p:nvPr/>
        </p:nvSpPr>
        <p:spPr>
          <a:xfrm>
            <a:off x="2666880" y="380880"/>
            <a:ext cx="6477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39d"/>
                </a:solidFill>
                <a:latin typeface="Century Schoolbook"/>
              </a:rPr>
              <a:t>WORK INDIVIDUAL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Placeholder 2"/>
          <p:cNvSpPr/>
          <p:nvPr/>
        </p:nvSpPr>
        <p:spPr>
          <a:xfrm>
            <a:off x="2514600" y="2438280"/>
            <a:ext cx="35812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39d"/>
                </a:solidFill>
                <a:latin typeface="Century Schoolbook"/>
              </a:rPr>
              <a:t>Do not copy the senten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39d"/>
                </a:solidFill>
                <a:latin typeface="Century Schoolbook"/>
              </a:rPr>
              <a:t>Write the ans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39d"/>
                </a:solidFill>
                <a:latin typeface="Century Schoolbook"/>
              </a:rPr>
              <a:t>You will have 10 minutes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39d"/>
                </a:solidFill>
                <a:latin typeface="Century Schoolbook"/>
              </a:rPr>
              <a:t>Good luc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3" descr="C:\Users\jose\AppData\Local\Microsoft\Windows\Temporary Internet Files\Content.IE5\6X679QE1\MC900413460[1].wmf"/>
          <p:cNvPicPr/>
          <p:nvPr/>
        </p:nvPicPr>
        <p:blipFill>
          <a:blip r:embed="rId1"/>
          <a:stretch/>
        </p:blipFill>
        <p:spPr>
          <a:xfrm>
            <a:off x="6477120" y="1143000"/>
            <a:ext cx="1904760" cy="20210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4" descr="vocabulary.png"/>
          <p:cNvPicPr/>
          <p:nvPr/>
        </p:nvPicPr>
        <p:blipFill>
          <a:blip r:embed="rId2"/>
          <a:stretch/>
        </p:blipFill>
        <p:spPr>
          <a:xfrm>
            <a:off x="6629400" y="3809880"/>
            <a:ext cx="1965240" cy="25956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0" descr="C:\Users\jose\AppData\Local\Microsoft\Windows\Temporary Internet Files\Content.IE5\QAUPEWIM\MC900434665[1].wmf"/>
          <p:cNvPicPr/>
          <p:nvPr/>
        </p:nvPicPr>
        <p:blipFill>
          <a:blip r:embed="rId3"/>
          <a:stretch/>
        </p:blipFill>
        <p:spPr>
          <a:xfrm>
            <a:off x="1752480" y="457200"/>
            <a:ext cx="83844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Box 9"/>
          <p:cNvSpPr/>
          <p:nvPr/>
        </p:nvSpPr>
        <p:spPr>
          <a:xfrm>
            <a:off x="0" y="133200"/>
            <a:ext cx="9144000" cy="699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16be"/>
                </a:solidFill>
                <a:latin typeface="Century Schoolbook"/>
              </a:rPr>
              <a:t> </a:t>
            </a:r>
            <a:r>
              <a:rPr b="1" lang="en-US" sz="2400" spc="-1" strike="noStrike">
                <a:solidFill>
                  <a:srgbClr val="1216be"/>
                </a:solidFill>
                <a:latin typeface="Century Schoolbook"/>
              </a:rPr>
              <a:t>tight      climax     </a:t>
            </a:r>
            <a:r>
              <a:rPr b="1" i="1" lang="en-US" sz="2400" spc="-1" strike="noStrike">
                <a:solidFill>
                  <a:srgbClr val="1216be"/>
                </a:solidFill>
                <a:latin typeface="Century Schoolbook"/>
              </a:rPr>
              <a:t>in medias res    </a:t>
            </a:r>
            <a:r>
              <a:rPr b="1" lang="en-US" sz="2400" spc="-1" strike="noStrike">
                <a:solidFill>
                  <a:srgbClr val="1216be"/>
                </a:solidFill>
                <a:latin typeface="Century Schoolbook"/>
              </a:rPr>
              <a:t>rising action   flashfor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16be"/>
                </a:solidFill>
                <a:latin typeface="Century Schoolbook"/>
              </a:rPr>
              <a:t>exposition      connection     loose     flashback   </a:t>
            </a:r>
            <a:r>
              <a:rPr b="1" lang="en-US" sz="2400" spc="-1" strike="noStrike">
                <a:solidFill>
                  <a:srgbClr val="1216be"/>
                </a:solidFill>
                <a:latin typeface="Arial"/>
              </a:rPr>
              <a:t>resolution</a:t>
            </a:r>
            <a:r>
              <a:rPr b="1" lang="en-US" sz="2400" spc="-1" strike="noStrike">
                <a:solidFill>
                  <a:srgbClr val="1216be"/>
                </a:solidFill>
                <a:latin typeface="Century Schoolbook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Narrative is what happens, while plot is the ____ between event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 traditional story usually has a _____ plot told in chronological order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ome plots are ____ and leave gaps so that the reader has to figure out the connection between events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 story that begins in the middle of an action is narrated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____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Narration of events that happened earlier in time of the main action is a ____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Narration of events that happen in the future, is a _____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n the _____ of the story, the main characters and setting are introduced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e ____ of a story is the point of highest action or the final conflict or crisi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e _____ of a story is where the conflict is developed through cris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n the _____ of a story the consequences of the action or the final outcome is revealed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285640" y="2895120"/>
            <a:ext cx="6172200" cy="20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39d"/>
                </a:solidFill>
                <a:latin typeface="Century Schoolbook"/>
              </a:rPr>
              <a:t>TURN IN YOUR QUIZ</a:t>
            </a:r>
            <a:endParaRPr b="0" lang="en-US" sz="6600" spc="-1" strike="noStrike">
              <a:solidFill>
                <a:srgbClr val="fff39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Box 9"/>
          <p:cNvSpPr/>
          <p:nvPr/>
        </p:nvSpPr>
        <p:spPr>
          <a:xfrm>
            <a:off x="0" y="133200"/>
            <a:ext cx="9144000" cy="553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16be"/>
                </a:solidFill>
                <a:latin typeface="Century Schoolbook"/>
              </a:rPr>
              <a:t> </a:t>
            </a:r>
            <a:r>
              <a:rPr b="1" lang="en-US" sz="2400" spc="-1" strike="noStrike">
                <a:solidFill>
                  <a:srgbClr val="1216be"/>
                </a:solidFill>
                <a:latin typeface="Century Schoolbook"/>
              </a:rPr>
              <a:t>tight      climax     </a:t>
            </a:r>
            <a:r>
              <a:rPr b="1" i="1" lang="en-US" sz="2400" spc="-1" strike="noStrike">
                <a:solidFill>
                  <a:srgbClr val="1216be"/>
                </a:solidFill>
                <a:latin typeface="Century Schoolbook"/>
              </a:rPr>
              <a:t>in medias res    </a:t>
            </a:r>
            <a:r>
              <a:rPr b="1" lang="en-US" sz="2400" spc="-1" strike="noStrike">
                <a:solidFill>
                  <a:srgbClr val="1216be"/>
                </a:solidFill>
                <a:latin typeface="Century Schoolbook"/>
              </a:rPr>
              <a:t>rising action   flashfor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16be"/>
                </a:solidFill>
                <a:latin typeface="Century Schoolbook"/>
              </a:rPr>
              <a:t>exposition loose     flashback   </a:t>
            </a:r>
            <a:r>
              <a:rPr b="1" lang="en-US" sz="2400" spc="-1" strike="noStrike">
                <a:solidFill>
                  <a:srgbClr val="1216be"/>
                </a:solidFill>
                <a:latin typeface="Arial"/>
              </a:rPr>
              <a:t>resolution</a:t>
            </a:r>
            <a:r>
              <a:rPr b="1" lang="en-US" sz="2400" spc="-1" strike="noStrike">
                <a:solidFill>
                  <a:srgbClr val="1216be"/>
                </a:solidFill>
                <a:latin typeface="Century Schoolbook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rrative is what happens, while plot is the ________________ between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traditional story usually has a _________ plot told in chronological or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plots are _______ and leave gaps so that the reader has to figure out the connection between ev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tory that begins in the middle of an action is narrate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rration of events that happened earlier in time of the main action is a 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1"/>
          <p:cNvSpPr/>
          <p:nvPr/>
        </p:nvSpPr>
        <p:spPr>
          <a:xfrm>
            <a:off x="847440" y="1593720"/>
            <a:ext cx="180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16be"/>
                </a:solidFill>
                <a:latin typeface="Arial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3"/>
          <p:cNvSpPr/>
          <p:nvPr/>
        </p:nvSpPr>
        <p:spPr>
          <a:xfrm>
            <a:off x="5490000" y="185580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16be"/>
                </a:solidFill>
                <a:latin typeface="Arial"/>
              </a:rPr>
              <a:t>t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4"/>
          <p:cNvSpPr/>
          <p:nvPr/>
        </p:nvSpPr>
        <p:spPr>
          <a:xfrm>
            <a:off x="2737440" y="266220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16be"/>
                </a:solidFill>
                <a:latin typeface="Arial"/>
              </a:rPr>
              <a:t>lo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5"/>
          <p:cNvSpPr/>
          <p:nvPr/>
        </p:nvSpPr>
        <p:spPr>
          <a:xfrm>
            <a:off x="543960" y="372888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216be"/>
                </a:solidFill>
                <a:latin typeface="Arial"/>
              </a:rPr>
              <a:t>In medias 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6"/>
          <p:cNvSpPr/>
          <p:nvPr/>
        </p:nvSpPr>
        <p:spPr>
          <a:xfrm>
            <a:off x="2735280" y="449100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216be"/>
                </a:solidFill>
                <a:latin typeface="Arial"/>
              </a:rPr>
              <a:t>flash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Box 9"/>
          <p:cNvSpPr/>
          <p:nvPr/>
        </p:nvSpPr>
        <p:spPr>
          <a:xfrm>
            <a:off x="0" y="380880"/>
            <a:ext cx="9144000" cy="52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16be"/>
                </a:solidFill>
                <a:latin typeface="Century Schoolbook"/>
              </a:rPr>
              <a:t> </a:t>
            </a:r>
            <a:r>
              <a:rPr b="1" lang="en-US" sz="2400" spc="-1" strike="noStrike">
                <a:solidFill>
                  <a:srgbClr val="1216be"/>
                </a:solidFill>
                <a:latin typeface="Century Schoolbook"/>
              </a:rPr>
              <a:t>tight      climax     </a:t>
            </a:r>
            <a:r>
              <a:rPr b="1" i="1" lang="en-US" sz="2400" spc="-1" strike="noStrike">
                <a:solidFill>
                  <a:srgbClr val="1216be"/>
                </a:solidFill>
                <a:latin typeface="Century Schoolbook"/>
              </a:rPr>
              <a:t>in medias res    </a:t>
            </a:r>
            <a:r>
              <a:rPr b="1" lang="en-US" sz="2400" spc="-1" strike="noStrike">
                <a:solidFill>
                  <a:srgbClr val="1216be"/>
                </a:solidFill>
                <a:latin typeface="Century Schoolbook"/>
              </a:rPr>
              <a:t>rising action   flashfor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16be"/>
                </a:solidFill>
                <a:latin typeface="Century Schoolbook"/>
              </a:rPr>
              <a:t>exposition      connection     loose     flashback   </a:t>
            </a:r>
            <a:r>
              <a:rPr b="1" lang="en-US" sz="2400" spc="-1" strike="noStrike">
                <a:solidFill>
                  <a:srgbClr val="1216be"/>
                </a:solidFill>
                <a:latin typeface="Arial"/>
              </a:rPr>
              <a:t>resolution</a:t>
            </a:r>
            <a:r>
              <a:rPr b="1" lang="en-US" sz="2400" spc="-1" strike="noStrike">
                <a:solidFill>
                  <a:srgbClr val="1216be"/>
                </a:solidFill>
                <a:latin typeface="Century Schoolbook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rration of events that happen in the future, is a ________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______________ of the story, the main characters and setting are introduc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________ of a story is the point of highest action or the final conflict or cri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_____________ of a story is where the conflict is developed through cri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_________ of a story the consequences of the action or the final outcome is revea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2"/>
          <p:cNvSpPr/>
          <p:nvPr/>
        </p:nvSpPr>
        <p:spPr>
          <a:xfrm>
            <a:off x="924840" y="1828800"/>
            <a:ext cx="201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216be"/>
                </a:solidFill>
                <a:latin typeface="Arial"/>
              </a:rPr>
              <a:t>flashfor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3"/>
          <p:cNvSpPr/>
          <p:nvPr/>
        </p:nvSpPr>
        <p:spPr>
          <a:xfrm>
            <a:off x="1609200" y="220500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216be"/>
                </a:solidFill>
                <a:latin typeface="Arial"/>
              </a:rPr>
              <a:t>ex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4"/>
          <p:cNvSpPr/>
          <p:nvPr/>
        </p:nvSpPr>
        <p:spPr>
          <a:xfrm>
            <a:off x="997200" y="289080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216be"/>
                </a:solidFill>
                <a:latin typeface="Arial"/>
              </a:rPr>
              <a:t>clim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5"/>
          <p:cNvSpPr/>
          <p:nvPr/>
        </p:nvSpPr>
        <p:spPr>
          <a:xfrm>
            <a:off x="999000" y="365292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216be"/>
                </a:solidFill>
                <a:latin typeface="Arial"/>
              </a:rPr>
              <a:t>rising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6"/>
          <p:cNvSpPr/>
          <p:nvPr/>
        </p:nvSpPr>
        <p:spPr>
          <a:xfrm>
            <a:off x="1379160" y="4414680"/>
            <a:ext cx="165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216be"/>
                </a:solidFill>
                <a:latin typeface="Arial"/>
              </a:rPr>
              <a:t>re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12:44:02Z</dcterms:created>
  <dc:creator>Preferred User</dc:creator>
  <dc:description/>
  <dc:language>en-US</dc:language>
  <cp:lastModifiedBy>Sally Everson</cp:lastModifiedBy>
  <cp:lastPrinted>2011-06-10T01:05:58Z</cp:lastPrinted>
  <dcterms:modified xsi:type="dcterms:W3CDTF">2011-06-15T03:02:54Z</dcterms:modified>
  <cp:revision>122</cp:revision>
  <dc:subject/>
  <dc:title>QUIZ #1</dc:title>
</cp:coreProperties>
</file>